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77E-94B6-4E5E-A427-7B177F8D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DEF-DD41-44C0-9296-025166D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A1B7F-19F5-4AB0-8139-2F42083F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E3D6E-50F3-49EC-A4A6-21A95C8D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DF440-7399-45CD-AFE3-FC08FB75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AD182-251B-4960-9396-0237018A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C0440-0A75-4055-A616-DCD1283D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7DA1C-3E7B-4A8D-90B5-E0C5EAE8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A2654-47AB-44DD-A454-DAECF2E1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BD8B7-B1A9-4EBE-86EB-89E09CA6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0A974-7254-4B7D-96A7-61991592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C4A3C-4D9F-46DB-8F04-9AD3A2C3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BAD-1C01-46A1-BFC6-10D0CCF5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3163F-42BB-46E5-98D9-EB5EBAB3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7A16B-35F9-4FD8-A35B-4F81637E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4834A-AE87-4BD0-9897-214CED41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CB76B-10E0-42D9-BCC0-B80598F4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13171-BF32-4E67-94CB-BC6BCB23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F3FBB-F0CC-490C-8A0A-A5385636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BE422-3F6E-48A6-B4ED-8747AFAD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804C5-D9F0-4410-B69F-19519E4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2FBD4-5472-4684-8DE1-667F2D9B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88E54-B712-4C72-B486-9FB92797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43F-7B0C-44E6-9C79-472F2B2C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05092-C4B2-4CFF-8D2A-8C0F9E79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3C9EB-F00A-4B79-9569-CD91D5B8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DE4D5-C41E-4C22-B490-8E88FDE4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C7858-5479-4E40-B857-D25CDF6D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92212-695C-48A2-A7C7-6F83C0E1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B8F0A-5BB6-4CDF-82BA-C7046AA7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2B5F1-5D16-4155-8294-528B60B7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D90AD-6929-488A-983F-B98C07E3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091E1-3133-4D06-8923-6AD989DC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CF54E-EB61-468B-B767-3E096C31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5C61-FC45-4032-A93C-CE42ED99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5D381-9B6D-4151-9295-87A80CC9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B76D0-3ED7-49FF-A22A-653974E4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99E7E-7A1E-40D6-A52B-4E011744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DFFCB-EB70-48C0-AA1B-CE58551D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52DF9-8D93-4DCF-BDB3-520275B9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FB4C4-EF01-4E3F-9C2A-F33A97C9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09141-5C79-4B69-80A3-F3927CF8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3829D-2650-4A23-A8C6-742BAD8B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BCB1C-5CF1-4759-AD7A-C5669AD8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B85C1-BB67-4439-AB05-2C372F7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ACD7-4E5D-415C-AEE7-A235843E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B7A04-688D-4AA4-9D25-FB161D1F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FA0F2-477A-41F4-A0BA-7429799F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8DF33-92C6-4512-8C79-CB33F503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1997A-F71D-4151-A681-C567401E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C5F37-7138-4CA5-90F6-8E147358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DDC36-1593-401B-BDB8-B3D7397C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F7CE9-452E-4AA2-851C-6FC18CB5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9D736-C0C5-4CDD-8D84-736E28AF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73407-7D21-4A26-822D-4B74D12F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42F30-ACE6-447A-984C-C090A532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9DB7-A3F7-4530-A084-794097D5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50D5E-FDBF-407B-BA15-50D30C2E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E4661-59EF-470C-8FDB-19ACE6D3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73F77-3576-4D97-ADE9-B0B067D2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A4E97-3A0D-4D7D-A1F5-A20BCCAB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251FB-B2AA-4440-A361-48F3E0EF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0166A-F42C-43A8-A6A3-139CE342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2794C-DE0C-4C49-82A0-330AE26F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F6311-5810-4074-B5D2-B2A49602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8788F-343E-4BF8-BC6D-7BF99C31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5A3E0-6CAD-44F6-A16D-DB8AC034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A5C5-AC6D-4194-B0FD-AD938954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387974-F5B6-4532-8925-CFF3E89E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0F947-CCA3-4336-936D-99E666F0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7C800-CF32-45C7-A1AA-E74912D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BDA1B-C4C0-42DD-AE78-D144A4E5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DD1B5-B130-49B7-84D6-AF674471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BE72B-FE98-4C6B-8E9F-FCEC27A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151AA-F175-4F5C-94B3-F2F98AFA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C3311-C17C-4DAD-8B27-6D8EA406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0CE54D-AB1C-4601-82C6-BA7C407E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B273A1-4277-4647-8389-C2474885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C28E-759D-4161-B8B5-2C2CEEBA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586349-7461-4991-BE73-D45DBB25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2D920-1E35-420D-BA14-33A547B3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F1584-CA17-46A0-B5C5-40DB4275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1D45A-2CF6-4502-934D-749AC856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2D5BC-66E5-422D-ABE7-71816EB8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286FF-7FDF-4789-8695-66E5A81A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ECE24-E27C-460B-BE79-89A686FE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B70F7-676B-45B8-95A8-17A82886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267A13-7CE9-4524-A969-C1F5BE13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B6E3BB-376E-4161-BD25-1B94AB0F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786D-BD8A-4A3D-9156-9DB729B8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67AC4F-7FF4-48B6-B122-7635ABE9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943CC-A077-4554-9519-D6B2D553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5CAA75-5E1E-446C-B4A4-F5A16B13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64AC3-0851-4793-AE26-393763D0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253F6-EAD4-4DCB-9F68-0EB74F1C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EAD41-05BE-4382-8ACC-41AA9052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FFC536-336E-4A35-A10F-5CD9EC76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A7DFB2-E14A-4058-87AB-DE4424CF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DD2945-8DCF-4DB5-A4A2-3B7C6DD7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C59341-42C2-4A0A-8118-D7E55BC0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C7EB-7B50-4651-9BD8-949166DD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F436A-DEF9-45A8-9405-ED4B6E77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870D69-B1DF-4405-9305-99AF99F1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8F3E8-B01E-4C2E-ABFF-7F3D3839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0822B-B234-4010-93FB-48F6961A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51CD64-DB7C-47A6-9C0A-B7228FB7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E0C81B-5ECE-4478-8F4A-04873829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B6A54D-7915-4123-8D30-AAAA94E9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0E3D3-7444-46AC-97E2-C38209DB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095A0-7CC1-4497-B0C7-A229D582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1D72F9-E0F7-4A4E-9F5E-997B0B0F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76B-68E6-4BA6-A137-56651085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D530-D36B-44E0-A3C6-AA9EF2CD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EC4C4-FEC4-4291-A998-FEFE09B9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319EB6-84C9-43BE-AF00-6EF74C05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A9D3FF-7F58-4A1F-A9CF-07B42897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04DADE-D54F-42EC-BB86-B882D355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BDFDD-2B5D-4C3D-97E2-BA0D290E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16966-B403-43F3-B411-A6217EC5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C3696C-8B8E-4314-8481-6A3C0B11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8E2A1-EC25-49CD-A3F8-8A3926D3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CCA6E2-7249-483E-B9E1-CEEFFD77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10A4F-AD76-4D0A-867C-20E6771B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3AAC-E4B5-4CB4-BC34-8CB58DFB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07FB03-8EF4-49B2-80AD-F4FF0FB3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CFBEC-A103-4184-A88A-88474B0C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FC9415-CC73-41CC-AE1F-4324D787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8673C5-2C49-4AA4-A55E-68B972B3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C2DF30-ABAA-4019-9FF1-644952A6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26F59-69A4-420B-A48C-2FED54BA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00E2C-B802-4C2D-B58E-CED10BD3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4AF9-F2C3-49AC-A6FC-18ADB685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1E92-CA34-46FD-A03F-415843AC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1C6C-C2AD-489F-B3B7-75A6EB17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C3D2-6842-4743-A619-4FB46728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FDA3-FB9B-4E7E-8B65-F58E4629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A3D3-DA89-4CFE-930B-A19FC886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0F47-3896-4F85-8992-E3CEC168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303E-EA32-4DE0-9658-20C72294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2BB-A30F-4CD8-8027-14F1169A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6580-BA0A-4208-8D88-AB22D9FF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DEB6-54B3-4E5C-9E11-8992EECE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F5008-C1DB-42EE-A5B2-740BAC5E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87F2-ABAD-43A9-839A-3C01C35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884E-DD34-4780-A7DE-5E5001F6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8255-6128-46B7-9DD1-7EA2D16A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67CDC-2B8C-4088-8AA1-5B89F6D4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05F15-0570-4EF2-9D57-EEFC77D7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9C055-CC63-47DB-945F-8107F417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167B-3CB6-4B07-B843-BFA44DE4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8E5-A77F-4190-AEFD-B489D107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5D1D-5F59-431C-8367-CD874FDF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B93B5-A327-486D-967D-55B59DBA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8D83-B7D9-43EF-AD26-DC825A41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F3ECD-43AC-4A8D-8326-A2FD5BF4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3C37A-15EE-45DE-BB80-513B34B6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23E8-1221-4D94-B324-2365A63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315C-AC11-4938-82C4-F2BEFAF2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4E165-BE6F-42AA-9AF5-15CFAB8A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DF5ED-7A59-41AF-A20C-997736A1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CC019-B085-4F74-9005-80EC89BB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6BC-9512-477F-B264-D7540551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E179D-B29C-41A1-81E4-297072B2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34C18-7FA7-49F3-8FE7-D9F836DA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ECBF2-4948-482A-87FE-26DE4E7D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FBD39-8C03-4AE7-9567-82333E00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57183-EF79-47E9-90FA-F58EF787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4F5A8-6B3C-4A47-BEE0-0DD99EF2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E9D5D-5F98-49CE-A797-5F469E2C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BEABC-AEF4-4089-8C29-DE4A18DB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3908A-9031-4A1F-9D73-2DA70FE5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BCA9-2596-4930-83B7-892AAF16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F6B-7176-465E-9C55-893553F8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6CD98-CB6E-4D71-BAEB-340D1278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499AD-D6F9-456D-A743-0D029CD8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E6E81-A418-4E5F-B53E-B5A61E72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0EBFA-ECB1-423C-A60D-02D01B5E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A2F34-618A-4790-8173-DD1E93C1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EE17C-A31E-43F8-AFDB-C96797F5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A63E2-0FFF-40EC-AC4B-CB3E9828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B59BC-A38D-48B7-B79A-62533DF4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DEF52-B7C3-4F6C-9545-B3013E8A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46E31-9989-48F0-9373-24AF3EA2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00A-9C6B-4B21-93DE-22F8C83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37DCF-4A91-46FB-8882-D752FBAE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5E84F-2DD5-4AEC-B6A3-4382B83F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FB681-682C-4E83-9911-853B420C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33CEF-F01C-463E-9161-ED37D015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0E84C-2B72-4262-944A-D39816B1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E8D78-5D62-40B5-BE34-9C0AC22D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9C811-369A-470C-916F-8DEA858B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0B170-4233-4440-A215-B915CE21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6E9F6-2CB4-4480-8F6E-82D088EA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5374-BD14-4667-AF95-783022DA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8D6-0125-44A4-97A1-0B682862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6F3BF-E832-4639-BF69-EA5B920C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169B8-AA80-4118-87D1-787C84F8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37F4F-CCE4-4DDF-907D-B9EC4136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3045C-F057-4C2D-87D1-26EE62FB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29222-AEDE-4678-85C3-7C9393DB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B1868-E688-4AAB-A662-9C5D76F9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8B762-AC8C-47CE-B05A-45242435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441E2-E057-4BE4-9CA2-D58AA01C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002BE-9CC0-44D1-A096-81FFCC1E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EDAB1-948A-4C8E-AD3D-B90B80F2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B6A-A211-4DC9-BF8D-0162888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4B678-C152-4087-AA66-C9F7DAD1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76708-F9A4-451A-9CC1-C44F4E0D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CF379-2E3F-4188-8906-213E624C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36469-3251-4518-B044-917DCB07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18152-ABF0-481C-919E-961149B4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97CA3-E1EF-4D6F-8245-2ED548C5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3A778-83E3-4368-8034-A372F4A1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4092B-3903-4757-99D6-72FFD810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C4425-0010-4A9E-A08F-02C1A2C4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B2260-95B2-495C-9578-54C538B9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41D2-7F0B-47D9-82B9-627733AD4C2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214D-FE32-4271-8E5F-B23335C694E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687A-315C-4CA1-809D-362EBB1A74F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9E69-2DD9-434E-B3AD-F2817AEBDEB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F738-0752-4AA0-B4C9-2CC8ED66FF9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3AEE-4B16-4BF0-8E8F-D8C9E4DEF93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37BA-8992-4211-9B24-ED7EE74BE48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B1A9-AEEF-47E1-8BC1-D483AED8492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279D-29C9-4A55-A0B7-FD714B774ACC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F7EB-D311-4F6F-A519-98D416D983D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5F40-1502-4D22-A488-91E1B6E2A23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3AC6-1C76-4546-BF9D-261102CF703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F80F-7E9D-43A7-891F-E57A551B93C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F7D7-8138-4AF2-8B89-F71CB863186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EC0B-D607-4777-93AF-FD243123082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DE20-E65B-44D6-AE49-EA194F3F386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944D-6B02-43C5-A891-AC744066E0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023F-22E1-4F71-A4DE-E89A114AF5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4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4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7FBA-8A39-471E-B9B4-D5C4EEACA5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9964-81F9-4169-9B9B-F576277D7F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E150-936D-4DBE-977D-85EC949FC8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8382-5181-4341-8834-F66FCDFE47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1361-7B3A-4312-9612-4EEF90E47B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3CD0-0023-4F6F-8D4E-442EB9D014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A14A-BE23-4E40-B549-5B853E31DC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35D3-B24F-48E4-A214-87A21B172B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07A9-A93B-4A93-BB6C-779E4AB6B6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B890-FE34-49B0-836F-499007954A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31ED-DF6D-4F10-B08F-66B4FBA3A6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5E12-F4A2-409A-98A1-9B7B38C121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1F58-19D1-45F7-AB20-892F7B476D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D1E1-67D8-4BC5-AAA6-7DC487F55C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43FF-1DDF-48DB-A48A-0E26E970DD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D054-6FE0-43AC-B77F-2FFE128A00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F8C0-CCF0-43DC-90DD-E798A452B5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AFD6-8100-4665-B487-EAD4776A73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8619-C0AE-4E85-B955-130C54810F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E61E-162A-4A75-B4DF-D3133352CA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0A46-CF60-45EA-8189-6770BB8D50F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6483-4A20-490F-BF66-C757675CAE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C085-8742-40C6-896D-66DBCA7350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2169-F137-43B2-89F1-CD1B1A07F7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3DD6-B010-4255-BE55-836926A500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DE41-33BB-44C2-9A0D-BF06473413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F109-A91F-4A83-BF96-CD197D69CA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8102-8ED1-42E5-AE95-451DC433AE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A4BC-6E4F-4CA1-B989-5FBE46CB12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271A-39F6-4BD6-9253-53F56EA38F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3F69-8436-481B-AFA7-02422B669C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2913-E6D4-4430-944A-87B743DFA2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C039-551F-4A83-82F5-4153D3D71A3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D00F-0808-4C6F-8440-0C4932A966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2CB8-177B-494F-AB48-C4AFEF9154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E463-123F-4540-8D44-53B56EF5AB1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C76D-1136-4690-A768-E6EBE31E55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95A0-CC93-4674-8E0A-51A818643B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E7EC-5CEE-4AC3-8909-C8A35C1D54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19ED-332C-4A49-9765-64839BD5B7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0746-C760-45C1-875E-A5EC65C5F3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92A1-F3B4-4755-ACC3-2E51C49FBF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2E7F-F222-4F1C-9EF7-DBDC45979C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24BF-36F0-43DC-ADC2-DFE08B1B8D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94A4-E2B4-46B9-B3A2-788E6E5EF8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816E-54FA-4DCC-B385-33D9E60911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120F-885B-46F2-9B06-CCF7834D0D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8B12-1F5B-436F-B715-D4F2F4C828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703B-9299-477B-BA20-F8F39F175C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FECC-7F66-47BB-BF88-A8DAA27F84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6E4F-F22E-4BE1-9A27-F08FBD1B84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2618-A9A1-4C5E-972B-786B38E0F7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2DE5-6CCD-4FA7-9FB5-BCB411F21C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9529-5250-4C3F-8F0E-BE72AF9AAF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6C14-4044-4687-841A-F3A0EDEA9D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1612-C837-46F4-AAE5-8ABDBF8DB3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7497-C219-47E9-9733-C914E150D3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4-07-22T09:46:15Z</dcterms:modified>
  <cp:revision>101</cp:revision>
  <dc:subject/>
  <dc:title>Aims and Objectives</dc:title>
</cp:coreProperties>
</file>